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7384-E7C2-4674-AF84-F7A726601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6589-930C-4643-B2D6-BD8B7A343AA1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F58AA-3ABF-408A-BC27-688567E6F6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BB959-634B-4D66-A993-3DAD4663A3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728AA-C66C-43FD-ACF0-5315F16529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51C26-1E55-4DFD-B083-7851D226A1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0B144-B723-4827-A07D-BECFD7299B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1C0F7-10C8-4745-A700-E7596089E3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48EDA-79D4-41A8-BA20-6B1598CA9C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E62AC-891E-4DAC-A384-B43BF2BDB9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43274-9AF4-4F14-9E36-D9E5F50AA1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9FA8D-4C2B-4C9A-9BAD-764323ABA8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63DC2-DAD1-4557-A564-7016E371A1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96353-1319-42FD-A8C9-BF02AE487F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E1E7-64B7-441E-907A-9BBF793F59FD}" type="slidenum"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r>
              <a:rPr b="0" lang="sr-Latn-CS" sz="2400" spc="-1" strike="noStrike">
                <a:solidFill>
                  <a:srgbClr val="4d4d4d"/>
                </a:solidFill>
                <a:latin typeface="Times New Roman"/>
              </a:rPr>
              <a:t> od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0"/>
          <p:cNvSpPr/>
          <p:nvPr/>
        </p:nvSpPr>
        <p:spPr>
          <a:xfrm>
            <a:off x="0" y="2664000"/>
            <a:ext cx="6227640" cy="100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360" y="270828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UPRAVLJANJE PROJEKTIMA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6227640" y="5734080"/>
            <a:ext cx="2737080" cy="3380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79280" y="6453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februar 2007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5286240" y="4611600"/>
            <a:ext cx="3237120" cy="2234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ww.grfic.com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o je samo primer, nikako ne predajte ovo kao vasu prezentacij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1BF3-2D6A-4E6B-9140-0D4698A6DD3C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oject Manag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tručnjak koji upravlja projektima naziva se </a:t>
            </a: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Project Manager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d njega se očekuje da pored poznavanja tehnologije izvođenja građevinskih radova, razvije i primenjuje sopstvenu tehnologiju upravljanja gradilišta.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852E-8131-4BAD-8DD6-79940D47D6ED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47640" y="184428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Zaključak</a:t>
            </a: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ima je bitno jer 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Smanjuje troškove građenja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Smanjuje period izgradnj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ovećava kvalitet gradnj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ovećava profi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bog toga je upravljanje projektima jedan bitan deo u oblasti građevinarstva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2420640"/>
            <a:ext cx="61563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ahoma"/>
              </a:rPr>
              <a:t>HVALA NA PAŽNJI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53C6-1F64-4EFA-8D28-EC05B39117DF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764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egled Izlaganja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6480" y="2276280"/>
            <a:ext cx="7643520" cy="39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Šta je Projekat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blemi u realizaciji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incip upravljan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jekt Manadžer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0DEA-DB2D-40A0-BACE-DA64DD7D9DB7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47640" y="184428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Šta je Projekat?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jekat koji za cilj ima izgradnju i opremanje građevinskog objekta naziva se </a:t>
            </a:r>
            <a:r>
              <a:rPr b="1" lang="sr-Latn-CS" sz="2800" spc="-1" strike="noStrike" u="sng">
                <a:solidFill>
                  <a:srgbClr val="292929"/>
                </a:solidFill>
                <a:uFillTx/>
                <a:latin typeface="Arial"/>
              </a:rPr>
              <a:t>građevinski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ili češće </a:t>
            </a:r>
            <a:r>
              <a:rPr b="1" lang="sr-Latn-CS" sz="2800" spc="-1" strike="noStrike" u="sng">
                <a:solidFill>
                  <a:srgbClr val="292929"/>
                </a:solidFill>
                <a:uFillTx/>
                <a:latin typeface="Arial"/>
              </a:rPr>
              <a:t>investicioni projekat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avisno od veličine objekta, projekti mogu biti manje ili više obimni ali bez obzira na to projekti su kompleksni tehničko-tehnološki, organizacioni, finanskijski i pravni procesi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D0A9-E8F4-4885-9631-0134D76AC9F2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280" y="177300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oblemi u realizaciji projekt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6920" y="2349360"/>
            <a:ext cx="764388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remenski uslovi,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Inflacije, cene materijala i potrebština,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ratki rokovi građenja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esuglasice oko ugovora 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187280" y="4581360"/>
            <a:ext cx="7561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bog ovih a i mnogih drugih problema postoji  potreba za sistemom upravljanja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9345-1767-453D-9B66-5496ABE429AE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403280" y="2708280"/>
            <a:ext cx="748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Upravljanje projektom je slo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žen i odgovoran posao organizacije građevinskog projekt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omoću sistema upravljanja, projekat se realizuje na ekonomičan, kvalitetan, brz i efikasan način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om je bitan faktor svakog građenja koji na “pametan” način olakšava proces realizacij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DB68-63F3-49DD-8E59-1236F9638494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403280" y="2708280"/>
            <a:ext cx="748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vaki projekat mora da ima upravaljački podsistem koji definiše: plan, ciljeve, politiku, strategiju, organizaciju, donosi odluke..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Planom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se definiše skup određenih aktivnosti, njihovih međuzavisnosti, trajanja istih i potrebnih resursa i sredstava za njihovo izvršenje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Cilj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definiše stanje posistema koje se želi postići (realizacija projekta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5AD5-7F39-4E97-8B11-2C2F49778D9E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187280" y="2421000"/>
            <a:ext cx="7705800" cy="43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vaki upravljački podsistem mora da upravlja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bimom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remenom (“Vreme je novac”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Troškovim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valitet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abavk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Rizik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7280" y="1773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96F8-4845-435E-AD6B-B92A9535D540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ima je veoma složen i komplikovan posao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Treba imati u vidu da obaveze svakog pojedinca koji učestvuje u projektu moraju biti jasno definisan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pr. gradilište sa par stotina radnika i velikim obimom posl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187280" y="1773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15D3-567B-4EE7-B336-BDEA1E085640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31640" y="1915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incip Upravljanj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71280" y="2492280"/>
            <a:ext cx="78483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4d4d4d"/>
                </a:solidFill>
                <a:latin typeface="Arial"/>
              </a:rPr>
              <a:t>U realizaciji svakog projekta dolazi do komplikacija koje utiču na tok realizacije. Zato svaki projekat mora da ima sistem kontrole koji se sastoji od: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rocene (planiranja) onog što će se dogoditi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Uvida u stvarno stanje radova (monitoring)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oređenje planiranog i ostvarenog 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reduzimanje akcije za minimizaciju odstupanja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22:18:25Z</dcterms:created>
  <dc:creator>Jovan Cvetanovic</dc:creator>
  <dc:description/>
  <dc:language>en-US</dc:language>
  <cp:lastModifiedBy>HOME</cp:lastModifiedBy>
  <dcterms:modified xsi:type="dcterms:W3CDTF">2008-02-02T11:02:31Z</dcterms:modified>
  <cp:revision>15</cp:revision>
  <dc:subject>upravaljanje projektima</dc:subject>
  <dc:title>UPRAVLJANJE PROJEKTIM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Jovan Cvetanovic</vt:lpwstr>
  </property>
</Properties>
</file>